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909D-CF2E-4001-8D65-896B14797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AE6E-0C36-4F21-A254-020B93A9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864F-12E6-4FFD-97BB-677CE8BE9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D57C-854E-4722-8038-9AD06F8F4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D9A6-59BC-468D-90F9-C03C2FFEB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8D01-EE1A-43CB-B0EB-E4E2BEFB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E051-5E69-41EA-AB6B-44B6E54B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F689-C5FF-4A1C-BB4D-D11D8C5A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DF92-9C8D-4851-AF9E-028CC16E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B01A-1FD7-49AE-BFB5-E516C00A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B097-4D7B-481D-B602-DE87CCEA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B6E9-A8DA-43D0-A107-4EB25E66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3604-835A-44EF-9485-15707EE5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2AD0-6C1E-48C2-B3A6-F3CE6EA8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59B8-579D-4226-A4B9-FBF4C537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E771-52AD-4A9E-A374-B52CBF588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ABA3-E031-4781-83FF-1C32B6424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5B1E-42FC-46EC-A1EE-9ECE1160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B0C0-94FB-4FF6-8932-3BBFA4C2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3E23-4C41-4214-B0D1-BAF8FB1D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26EE-2044-4EDB-9092-7E4158D3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9077-11B2-4FAE-AA8A-1FA4E509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8116-DEC8-45F9-AAEB-9D54BCF0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B0F4-8066-4DC1-926D-3D57B604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BCF7-74D0-4345-8752-B77C07CDFA07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5411-5DFA-43EA-84A0-ED94738E1D96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brança pelo uso dos recursos hídr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042920" y="3728880"/>
            <a:ext cx="7058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oposta aprovada pelos Comitês PCJ em 21/10/2005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dições Gera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2060640"/>
            <a:ext cx="83516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ício: a partir de 1</a:t>
            </a:r>
            <a:r>
              <a:rPr b="0" lang="en-US" sz="2400" spc="-1" strike="noStrike" baseline="30000">
                <a:solidFill>
                  <a:srgbClr val="545472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de janeiro de 2006, com Plano e Agência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Todos usos significantes: CT-OL usos insignificantes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rogressividade: 60% (1</a:t>
            </a:r>
            <a:r>
              <a:rPr b="0" lang="en-US" sz="2400" spc="-1" strike="noStrike" baseline="30000">
                <a:solidFill>
                  <a:srgbClr val="545472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ano) 75% (2</a:t>
            </a:r>
            <a:r>
              <a:rPr b="0" lang="en-US" sz="2400" spc="-1" strike="noStrike" baseline="30000">
                <a:solidFill>
                  <a:srgbClr val="545472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ano) 100% (3</a:t>
            </a:r>
            <a:r>
              <a:rPr b="0" lang="en-US" sz="2400" spc="-1" strike="noStrike" baseline="30000">
                <a:solidFill>
                  <a:srgbClr val="545472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ano)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Validade da proposta: 2 anos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Beneficiários: todos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rocesso de regularização dos usos e campanha de divulgação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Aplicação $: Programas do Plano e regras de hierarquização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dições Gera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2060640"/>
            <a:ext cx="835164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“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ontribuição Regional Voluntária” - FEHIDRO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RV </a:t>
            </a:r>
            <a:r>
              <a:rPr b="0" lang="pt-BR" sz="2400" spc="-1" strike="noStrike">
                <a:solidFill>
                  <a:srgbClr val="545472"/>
                </a:solidFill>
                <a:latin typeface="Wingdings"/>
                <a:ea typeface="Wingdings"/>
              </a:rPr>
              <a:t>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 pontuação extra: PE = PE</a:t>
            </a:r>
            <a:r>
              <a:rPr b="0" lang="pt-BR" sz="2400" spc="-1" strike="noStrike" baseline="-25000">
                <a:solidFill>
                  <a:srgbClr val="545472"/>
                </a:solidFill>
                <a:latin typeface="Times New Roman"/>
              </a:rPr>
              <a:t>max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 x K</a:t>
            </a:r>
            <a:r>
              <a:rPr b="0" lang="pt-BR" sz="2400" spc="-1" strike="noStrike" baseline="-25000">
                <a:solidFill>
                  <a:srgbClr val="545472"/>
                </a:solidFill>
                <a:latin typeface="Times New Roman"/>
              </a:rPr>
              <a:t>PE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RV extingue-se com a cobrança estadual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orreção de valores e compensação no ano posterior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Pagamento com atraso: multa de 2% e SELIC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588000" y="2460600"/>
                <a:ext cx="21607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V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órmul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marL="60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A cobrança será feita levando-se em consideração os seguintes aspectos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volume anual de água captado do corpo hídrico, que será denotado por “Q</a:t>
            </a:r>
            <a:r>
              <a:rPr b="0" lang="pt-BR" sz="2000" spc="-1" strike="noStrike" baseline="-25000">
                <a:solidFill>
                  <a:srgbClr val="545472"/>
                </a:solidFill>
                <a:latin typeface="Times New Roman"/>
              </a:rPr>
              <a:t>cap</a:t>
            </a: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”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volume anual de água captada e transposta para outras bacias, que será denotado por “Q</a:t>
            </a:r>
            <a:r>
              <a:rPr b="0" lang="pt-BR" sz="2000" spc="-1" strike="noStrike" baseline="-25000">
                <a:solidFill>
                  <a:srgbClr val="545472"/>
                </a:solidFill>
                <a:latin typeface="Times New Roman"/>
              </a:rPr>
              <a:t>transp</a:t>
            </a: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”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volume anual lançado no corpo hídrico, que será denotado por “Q</a:t>
            </a:r>
            <a:r>
              <a:rPr b="0" lang="pt-BR" sz="2000" spc="-1" strike="noStrike" baseline="-25000">
                <a:solidFill>
                  <a:srgbClr val="545472"/>
                </a:solidFill>
                <a:latin typeface="Times New Roman"/>
              </a:rPr>
              <a:t>lanç</a:t>
            </a: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”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volume anual de água consumido do corpo hídrico (diferença entre o volume captado e o lançado), que será denotado por “Qcons”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carga orgânica lançada no corpo hídrico, denotada por “CO</a:t>
            </a:r>
            <a:r>
              <a:rPr b="0" lang="pt-BR" sz="2000" spc="-1" strike="noStrike" baseline="-25000">
                <a:solidFill>
                  <a:srgbClr val="545472"/>
                </a:solidFill>
                <a:latin typeface="Times New Roman"/>
              </a:rPr>
              <a:t>DBO</a:t>
            </a: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”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lemen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2060640"/>
            <a:ext cx="8351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arcelas e valor mínimo: R$ 20,00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Abatimento do Valor devido a CO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Abatimento do valor devido pelo setor rural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Regularização de débitos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ondicionantes para acesso e indicação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alores dos PUB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533520" y="1905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2175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50324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52280" y="1905120"/>
            <a:ext cx="8839440" cy="3795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Estimativa preliminar de arrecadaçã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533520" y="1905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2175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50324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05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9144000" cy="4740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7380360" y="508464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11:28:47Z</dcterms:created>
  <dc:creator>lmoretti</dc:creator>
  <dc:description/>
  <dc:language>en-US</dc:language>
  <cp:lastModifiedBy>Windows</cp:lastModifiedBy>
  <dcterms:modified xsi:type="dcterms:W3CDTF">2005-10-27T00:55:16Z</dcterms:modified>
  <cp:revision>13</cp:revision>
  <dc:subject/>
  <dc:title>Cobrança pelo uso das águas</dc:title>
</cp:coreProperties>
</file>